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554-EA3D-4EB1-9DA4-B9575CD7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E5F-67CC-40E6-8727-CD897FB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66B-6DD2-4910-8C4E-158BD4E2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85A-5BEB-45CD-A9CA-66DE8292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83CB-D9ED-4863-9658-7A7B0F28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054B-5421-4010-A052-91030D4F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3E4A-46F3-41CB-94D3-05E26216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9CE3-931A-453B-B6B7-536C5801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9941-CEA0-4146-92B3-9F305901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D849-D669-44E0-9C07-314AF33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3E13-2111-4497-A262-685E5535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F4D-F098-4716-9A15-2DBF7D19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3610-67A7-45F0-AAA9-E0EC524A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EDC2-5577-4553-9E28-5435E03F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D18F-8A5A-4381-A50F-2509CFE5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3E31-1600-4365-839D-31572B68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A8E5-0AFA-4431-8928-F4D3B0ED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3DD2-ED39-4116-940E-A50C2537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6D8F-DED6-46D3-ABEF-4744987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81B5-5231-44AB-AFC3-5567443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D7B59-09A1-4BC3-8715-DFC5854C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F24C-7ADF-48EC-A5DB-8CD00DD0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5FF-D960-4FA8-9088-88D6C0B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5A40-D703-4DBF-A844-AD9FB9F7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F8D6-6FD2-4C15-A8AE-B2DA55C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5A8F-4B04-43E3-B972-FFFB46D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08CB-5E29-4FD7-BAD1-0AC8D600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DAA1-79A8-4192-B500-D3B4177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F1C4-1BEA-4DFE-82E9-23D62A95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F91D-0AC5-46B7-B2BA-644779DC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48ED-491A-4B45-B89B-48E3715F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8351-50B8-4966-B245-973A7DFF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0A8F-9AC6-42B8-BED8-8D768B0C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823-8082-4166-830C-C88E87F7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6C5E-862C-4AAF-98B0-E05E34FC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0AF2-2F09-430F-97F8-45235BE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8EE4-7E0A-4324-84CF-491EE84D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CC60-96E5-47C8-920E-741FFB1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A85B-C2BA-4C11-B069-DCB8E2A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5B03-8D81-4D7C-9AAC-58E5778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5521D-6354-49ED-80E4-F862C8DF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D673-BB4B-4BEC-8DA6-A78F0A6F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28B2-498E-4D47-82FE-2A555F1E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6C6-B07E-4908-87FE-96BB3F31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A0F-498C-4C61-807D-EDD6E410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663-1272-42B0-9ECD-EC53880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E46-A794-4761-AF8A-7EF31514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C83-D366-4B2B-B4AE-AAF1B9B3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977-94ED-4C4E-957F-386E79DD93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67F3-9695-42A4-ADA0-4B48CCB2CBF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A61-BA1A-4FED-9ACA-0BD70CD4AE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960D-7EA5-491B-B160-5C959B22B4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55640" y="66600"/>
            <a:ext cx="818676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vone Nune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HJRACAKRICPLCAR8T2PLCA75SOP4CARW9X6RCAWW8J9QCAFXUMI9CAFNZ2F3CA8DD2D5CAQZ9ZEDCAP3HER2CAQTI0ERCAUHNC7RCAMG826OCAGF1X4UCANF4B9UCAGILR37CA27MAWFCA8OCJ6SCACQV9YY.jpg"/>
          <p:cNvPicPr/>
          <p:nvPr/>
        </p:nvPicPr>
        <p:blipFill>
          <a:blip r:embed="rId2"/>
          <a:stretch/>
        </p:blipFill>
        <p:spPr>
          <a:xfrm>
            <a:off x="3124080" y="2819520"/>
            <a:ext cx="3424320" cy="3233520"/>
          </a:xfrm>
          <a:prstGeom prst="rect">
            <a:avLst/>
          </a:prstGeom>
          <a:ln w="0">
            <a:noFill/>
          </a:ln>
        </p:spPr>
      </p:pic>
      <p:pic>
        <p:nvPicPr>
          <p:cNvPr id="198" name="~PP3887.WAV" descr=""/>
          <p:cNvPicPr/>
          <p:nvPr/>
        </p:nvPicPr>
        <p:blipFill>
          <a:blip r:embed="rId3"/>
          <a:stretch/>
        </p:blipFill>
        <p:spPr>
          <a:xfrm>
            <a:off x="-30492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有两只猪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4648320" y="213372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238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2"/>
          <a:stretch/>
        </p:blipFill>
        <p:spPr>
          <a:xfrm>
            <a:off x="2209680" y="205740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19520" y="54100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two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orded Sound" descr=""/>
          <p:cNvPicPr/>
          <p:nvPr/>
        </p:nvPicPr>
        <p:blipFill>
          <a:blip r:embed="rId3"/>
          <a:stretch/>
        </p:blipFill>
        <p:spPr>
          <a:xfrm>
            <a:off x="-3049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uit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8800" y="4952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Fruit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Content Placeholder 7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304812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Recorded Sound" descr=""/>
          <p:cNvPicPr/>
          <p:nvPr/>
        </p:nvPicPr>
        <p:blipFill>
          <a:blip r:embed="rId2"/>
          <a:stretch/>
        </p:blipFill>
        <p:spPr>
          <a:xfrm>
            <a:off x="-30492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还有五只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1371600" y="220968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2"/>
          <a:stretch/>
        </p:blipFill>
        <p:spPr>
          <a:xfrm>
            <a:off x="2666880" y="23623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48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3"/>
          <a:stretch/>
        </p:blipFill>
        <p:spPr>
          <a:xfrm>
            <a:off x="3962520" y="251460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9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4"/>
          <a:stretch/>
        </p:blipFill>
        <p:spPr>
          <a:xfrm>
            <a:off x="5638680" y="25909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5"/>
          <a:stretch/>
        </p:blipFill>
        <p:spPr>
          <a:xfrm>
            <a:off x="7010280" y="2590920"/>
            <a:ext cx="962280" cy="12859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1752480" y="4876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five chic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orded Sound" descr=""/>
          <p:cNvPicPr/>
          <p:nvPr/>
        </p:nvPicPr>
        <p:blipFill>
          <a:blip r:embed="rId6"/>
          <a:stretch/>
        </p:blipFill>
        <p:spPr>
          <a:xfrm>
            <a:off x="-3049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Krispies, Puffs, Cocoa, Flakes </a:t>
            </a: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rost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3733920" y="1981080"/>
            <a:ext cx="1342800" cy="1795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1905120" y="46483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Krispies, Puffs, Cocoa, Flakes and Fro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Recorded Sound" descr=""/>
          <p:cNvPicPr/>
          <p:nvPr/>
        </p:nvPicPr>
        <p:blipFill>
          <a:blip r:embed="rId2"/>
          <a:stretch/>
        </p:blipFill>
        <p:spPr>
          <a:xfrm>
            <a:off x="-30492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一只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nchil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3505320" y="2743200"/>
            <a:ext cx="1652400" cy="1652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438280" y="5334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orded Sound" descr=""/>
          <p:cNvPicPr/>
          <p:nvPr/>
        </p:nvPicPr>
        <p:blipFill>
          <a:blip r:embed="rId2"/>
          <a:stretch/>
        </p:blipFill>
        <p:spPr>
          <a:xfrm>
            <a:off x="-609480" y="3962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cial 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438280" y="56386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name was Special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Content Placeholder 5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2819520" y="23781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64" name="Recorded Sound" descr=""/>
          <p:cNvPicPr/>
          <p:nvPr/>
        </p:nvPicPr>
        <p:blipFill>
          <a:blip r:embed="rId2"/>
          <a:stretch/>
        </p:blipFill>
        <p:spPr>
          <a:xfrm>
            <a:off x="-60948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们在农庄都快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Content Placeholder 7" descr="7RVYCA069NAJCABEMY5FCAUFL000CA2PQUIOCAH4HXY6CA6ZAJEJCAC2NMV0CA1U2UQ1CA4AH16VCAWMUOBRCA9P6PMTCAILASIGCAPGPDGJCAZZ7P68CACBW2DOCADP38T3CAXJ3FOMCA2QG5BLCA8NZWS1.jpg"/>
          <p:cNvPicPr/>
          <p:nvPr/>
        </p:nvPicPr>
        <p:blipFill>
          <a:blip r:embed="rId1"/>
          <a:stretch/>
        </p:blipFill>
        <p:spPr>
          <a:xfrm>
            <a:off x="1828800" y="1806480"/>
            <a:ext cx="4876920" cy="34894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220968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l happy in the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orded Sound" descr=""/>
          <p:cNvPicPr/>
          <p:nvPr/>
        </p:nvPicPr>
        <p:blipFill>
          <a:blip r:embed="rId2"/>
          <a:stretch/>
        </p:blipFill>
        <p:spPr>
          <a:xfrm>
            <a:off x="-53352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直到有一天，马醒来时大叫了一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Content Placeholder 3" descr="52.jpg"/>
          <p:cNvPicPr/>
          <p:nvPr/>
        </p:nvPicPr>
        <p:blipFill>
          <a:blip r:embed="rId1"/>
          <a:stretch/>
        </p:blipFill>
        <p:spPr>
          <a:xfrm>
            <a:off x="3124080" y="2666880"/>
            <a:ext cx="2686320" cy="15224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905120" y="5257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one day, the horse wakes up sc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orded Sound" descr=""/>
          <p:cNvPicPr/>
          <p:nvPr/>
        </p:nvPicPr>
        <p:blipFill>
          <a:blip r:embed="rId2"/>
          <a:stretch/>
        </p:blipFill>
        <p:spPr>
          <a:xfrm>
            <a:off x="-7621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说绿色的怪物回来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Content Placeholder 3" descr="VR7OCAXGEOOACA7PEPFPCAKHCVE3CAYKK1L3CAETKD35CAKE7EU2CAISR7FMCAJY8X8BCA4EDQXJCARCY22RCAN3GWT3CA1K0V2DCAOBR58DCADGQABYCA6NRPTBCAOLXL3YCAP2GH8LCAKNHJW0CAQBB60Q.jpg"/>
          <p:cNvPicPr/>
          <p:nvPr/>
        </p:nvPicPr>
        <p:blipFill>
          <a:blip r:embed="rId1"/>
          <a:stretch/>
        </p:blipFill>
        <p:spPr>
          <a:xfrm>
            <a:off x="2895480" y="2590920"/>
            <a:ext cx="2854440" cy="2043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90512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that the Green Monster was ba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orded Sound" descr=""/>
          <p:cNvPicPr/>
          <p:nvPr/>
        </p:nvPicPr>
        <p:blipFill>
          <a:blip r:embed="rId2"/>
          <a:stretch/>
        </p:blipFill>
        <p:spPr>
          <a:xfrm>
            <a:off x="-6858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Content Placeholder 3" descr="H8X4CAB05SWZCA9PMDSGCADHOYJKCA02BIBHCA7527BHCAM5UNA1CAQIT5FYCAZWGMIKCA0KV2OGCA4JRA7VCA017YQKCAKWRKOHCAZONXXXCAEXSMDKCAKSBH54CA5SX041CA1RXAMUCA0TIZY5CAZ8DFHO.jpg"/>
          <p:cNvPicPr/>
          <p:nvPr/>
        </p:nvPicPr>
        <p:blipFill>
          <a:blip r:embed="rId1"/>
          <a:stretch/>
        </p:blipFill>
        <p:spPr>
          <a:xfrm>
            <a:off x="3200400" y="2276640"/>
            <a:ext cx="1805040" cy="24397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1828800" y="5715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corded Sound" descr=""/>
          <p:cNvPicPr/>
          <p:nvPr/>
        </p:nvPicPr>
        <p:blipFill>
          <a:blip r:embed="rId2"/>
          <a:stretch/>
        </p:blipFill>
        <p:spPr>
          <a:xfrm>
            <a:off x="-83808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有一个小男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YLV2CAW10Q9DCA6GYNGXCA0NKNSDCA4E7QXECAZRI23WCA48Y4IECA95IRT3CA2TTL9WCAVBBZUVCAV5WQH5CASQ0EXECAUSJA1RCAB5FZVGCAFEBTNPCAT3A7ASCA83WWUKCAHG2T4SCAD5E62RCAQE79MI.jpg"/>
          <p:cNvPicPr/>
          <p:nvPr/>
        </p:nvPicPr>
        <p:blipFill>
          <a:blip r:embed="rId1"/>
          <a:stretch/>
        </p:blipFill>
        <p:spPr>
          <a:xfrm>
            <a:off x="3657600" y="1828800"/>
            <a:ext cx="1447920" cy="2543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600200" y="52578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littl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30492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一天，他们聚到一起把他吓走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Content Placeholder 3" descr="X878CAZXDJR6CAR9RWBACAEM9VB3CA0TM0C7CAZWGVIMCAE3EP6WCAVA50ICCAPEL96YCAWEAOX0CARMGNWGCABGKI5RCAD873WTCA1XBK8ACAP2RUFDCAOGO2XNCAH2VLFACAO7RPN6CA0SI9CHCA11WPQX.jpg"/>
          <p:cNvPicPr/>
          <p:nvPr/>
        </p:nvPicPr>
        <p:blipFill>
          <a:blip r:embed="rId1"/>
          <a:stretch/>
        </p:blipFill>
        <p:spPr>
          <a:xfrm>
            <a:off x="2341440" y="2133720"/>
            <a:ext cx="2826000" cy="2192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"/>
          <p:cNvSpPr/>
          <p:nvPr/>
        </p:nvSpPr>
        <p:spPr>
          <a:xfrm>
            <a:off x="1219320" y="5334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ay, they all got together and                               scared him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Recorded Sound" descr=""/>
          <p:cNvPicPr/>
          <p:nvPr/>
        </p:nvPicPr>
        <p:blipFill>
          <a:blip r:embed="rId2"/>
          <a:stretch/>
        </p:blipFill>
        <p:spPr>
          <a:xfrm>
            <a:off x="-60948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在也没回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never came 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3" descr="M6RTCA4AVUCRCAG6T98VCAVW19KXCAUCNL85CAP4QDNECAMMPCSYCAWCMPQ9CAZRLUZDCAHXZ1NNCAGC0J3WCADEL51BCA4CMWKDCAJJO3ERCASUPF9MCAPYCSJQCA0VE1NLCAD3U22VCAT0TX9LCA1XJ80D.jpg"/>
          <p:cNvPicPr/>
          <p:nvPr/>
        </p:nvPicPr>
        <p:blipFill>
          <a:blip r:embed="rId1"/>
          <a:stretch/>
        </p:blipFill>
        <p:spPr>
          <a:xfrm>
            <a:off x="2743200" y="2286000"/>
            <a:ext cx="3200400" cy="3176640"/>
          </a:xfrm>
          <a:prstGeom prst="rect">
            <a:avLst/>
          </a:prstGeom>
          <a:ln w="0">
            <a:noFill/>
          </a:ln>
        </p:spPr>
      </p:pic>
      <p:pic>
        <p:nvPicPr>
          <p:cNvPr id="288" name="Recorded Sound" descr=""/>
          <p:cNvPicPr/>
          <p:nvPr/>
        </p:nvPicPr>
        <p:blipFill>
          <a:blip r:embed="rId2"/>
          <a:stretch/>
        </p:blipFill>
        <p:spPr>
          <a:xfrm>
            <a:off x="-68580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pple Jac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M2HCCAEK1O54CAOWGDU8CA312VPOCA28IT7UCAJW3T9OCAT1MVFCCAFF1HJLCAQRPI6YCA4UKJLFCARNV9U1CANUWVWXCAB5NVE2CAXC02U3CAAM02PYCAOC7SJKCARSCR25CATZ0QP0CAHR3KL5CAZIX6FM.jpg"/>
          <p:cNvPicPr/>
          <p:nvPr/>
        </p:nvPicPr>
        <p:blipFill>
          <a:blip r:embed="rId1"/>
          <a:stretch/>
        </p:blipFill>
        <p:spPr>
          <a:xfrm>
            <a:off x="3429000" y="2590920"/>
            <a:ext cx="2465280" cy="2178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2286000" y="5486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Apple J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妈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m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images.jpg"/>
          <p:cNvPicPr/>
          <p:nvPr/>
        </p:nvPicPr>
        <p:blipFill>
          <a:blip r:embed="rId1"/>
          <a:stretch/>
        </p:blipFill>
        <p:spPr>
          <a:xfrm>
            <a:off x="3124080" y="1905120"/>
            <a:ext cx="2482920" cy="211428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11"/>
          <p:cNvSpPr/>
          <p:nvPr/>
        </p:nvSpPr>
        <p:spPr>
          <a:xfrm>
            <a:off x="3124080" y="1981080"/>
            <a:ext cx="25909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"/>
          <p:cNvSpPr/>
          <p:nvPr/>
        </p:nvSpPr>
        <p:spPr>
          <a:xfrm flipH="1">
            <a:off x="3200400" y="2057400"/>
            <a:ext cx="22860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orded Sound" descr=""/>
          <p:cNvPicPr/>
          <p:nvPr/>
        </p:nvPicPr>
        <p:blipFill>
          <a:blip r:embed="rId2"/>
          <a:stretch/>
        </p:blipFill>
        <p:spPr>
          <a:xfrm>
            <a:off x="-3049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爸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VH1ACANBVS77CAM8TCRLCAMXNRCYCA6FIFSWCA4BTAW4CAB6ZZJNCAGQKYRXCAKO039NCATG2UUACAW06H0YCAUNPEUACAX600AOCAUT4ZWXCAG2KWTCCARDC1VUCAK4L7J5CAKNDR4DCASY7LBECALY61BM.jpg"/>
          <p:cNvPicPr/>
          <p:nvPr/>
        </p:nvPicPr>
        <p:blipFill>
          <a:blip r:embed="rId1"/>
          <a:stretch/>
        </p:blipFill>
        <p:spPr>
          <a:xfrm>
            <a:off x="3200400" y="2133720"/>
            <a:ext cx="2227320" cy="2133360"/>
          </a:xfrm>
          <a:prstGeom prst="rect">
            <a:avLst/>
          </a:prstGeom>
          <a:ln w="0">
            <a:noFill/>
          </a:ln>
        </p:spPr>
      </p:pic>
      <p:sp>
        <p:nvSpPr>
          <p:cNvPr id="217" name="Straight Connector 7"/>
          <p:cNvSpPr/>
          <p:nvPr/>
        </p:nvSpPr>
        <p:spPr>
          <a:xfrm>
            <a:off x="3353760" y="2287440"/>
            <a:ext cx="1827000" cy="190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 flipH="1">
            <a:off x="3352320" y="2209680"/>
            <a:ext cx="175284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Recorded Sound" descr=""/>
          <p:cNvPicPr/>
          <p:nvPr/>
        </p:nvPicPr>
        <p:blipFill>
          <a:blip r:embed="rId2"/>
          <a:stretch/>
        </p:blipFill>
        <p:spPr>
          <a:xfrm>
            <a:off x="-53352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很寂寞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was lon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YGLPCA22O2RRCAIL8LA6CA1EONGGCASMQLWKCA7D08X0CAXFAJJICAO0LUCPCARO68TECAP2D0X3CANWH2PYCAMZ6HU7CAGZSORSCADRB6IZCAV5C1MHCAKHZ347CA4JANX0CAI6K773CAP94YH4CA0E5AGK.jpg"/>
          <p:cNvPicPr/>
          <p:nvPr/>
        </p:nvPicPr>
        <p:blipFill>
          <a:blip r:embed="rId1"/>
          <a:stretch/>
        </p:blipFill>
        <p:spPr>
          <a:xfrm>
            <a:off x="3429000" y="2133720"/>
            <a:ext cx="1976400" cy="189864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2"/>
          <a:stretch/>
        </p:blipFill>
        <p:spPr>
          <a:xfrm>
            <a:off x="-30492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住在一个农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3" descr="IVAMCACJ1AA4CATC3YLLCAQ1LR3UCA76LSXHCAG169K6CAMHNOD5CAJXA5SICA5P5W4FCAAAMSZ7CA9I9WRPCAV8BUB1CA2K0L6VCAIOHHCICA28U0NACA5EK9K2CAC31AZNCAFFFBW1CA1Y64MACA63F43D.jpg"/>
          <p:cNvPicPr/>
          <p:nvPr/>
        </p:nvPicPr>
        <p:blipFill>
          <a:blip r:embed="rId1"/>
          <a:stretch/>
        </p:blipFill>
        <p:spPr>
          <a:xfrm>
            <a:off x="283680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295280" y="5486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ived in a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30492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农庄里有马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64.jpg"/>
          <p:cNvPicPr/>
          <p:nvPr/>
        </p:nvPicPr>
        <p:blipFill>
          <a:blip r:embed="rId1"/>
          <a:stretch/>
        </p:blipFill>
        <p:spPr>
          <a:xfrm>
            <a:off x="3048120" y="2362320"/>
            <a:ext cx="2138400" cy="20494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981080" y="533412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arm there was a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orded Sound" descr=""/>
          <p:cNvPicPr/>
          <p:nvPr/>
        </p:nvPicPr>
        <p:blipFill>
          <a:blip r:embed="rId2"/>
          <a:stretch/>
        </p:blipFill>
        <p:spPr>
          <a:xfrm>
            <a:off x="-3049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ptain Cr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Content Placeholder 3" descr="37.jpg"/>
          <p:cNvPicPr/>
          <p:nvPr/>
        </p:nvPicPr>
        <p:blipFill>
          <a:blip r:embed="rId1"/>
          <a:stretch/>
        </p:blipFill>
        <p:spPr>
          <a:xfrm>
            <a:off x="3505320" y="2057400"/>
            <a:ext cx="2033640" cy="2033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se’s name was Capitan Cr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corded Sound" descr=""/>
          <p:cNvPicPr/>
          <p:nvPr/>
        </p:nvPicPr>
        <p:blipFill>
          <a:blip r:embed="rId2"/>
          <a:stretch/>
        </p:blipFill>
        <p:spPr>
          <a:xfrm>
            <a:off x="-30492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4:10:54Z</dcterms:created>
  <dc:creator>itsuser</dc:creator>
  <dc:description/>
  <dc:language>en-US</dc:language>
  <cp:lastModifiedBy>itsuser</cp:lastModifiedBy>
  <dcterms:modified xsi:type="dcterms:W3CDTF">2009-04-16T16:21:40Z</dcterms:modified>
  <cp:revision>45</cp:revision>
  <dc:subject/>
  <dc:title>Slide 1</dc:title>
</cp:coreProperties>
</file>